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92E-B276-4B92-8070-FBD15EF5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C12-318D-49AC-AE8B-42189844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C73-3651-4B92-9750-AD1B0443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B43-C6AA-4417-868D-8AE34DCE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DBE-5CF8-436B-92FB-7E4D7481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C87-6E06-4F4E-9873-C461D86D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61C-E2DC-402D-B6B3-E3B10522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827-9D56-4A6D-A6FF-E7EB7AE4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902-622E-484A-911A-3069CBBC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12D-9F08-40A1-B3CE-A946E7AD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E1A-8386-4B90-97EC-9E57259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D26-A74D-45FC-B84A-5F17996E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36E1-4F66-4953-BEE9-6CE816F60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 4 de may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fue Emiliano Zap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7030a0"/>
                </a:solidFill>
                <a:latin typeface="Arial"/>
              </a:rPr>
              <a:t>L.O: to learn about Emiliano Za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1" lang="es-ES_tradnl" sz="3200" spc="-1" strike="noStrike">
                <a:solidFill>
                  <a:srgbClr val="00b050"/>
                </a:solidFill>
                <a:latin typeface="Arial"/>
              </a:rPr>
              <a:t>Tomar </a:t>
            </a:r>
            <a:r>
              <a:rPr b="1" lang="es-ES_tradnl" sz="3200" spc="-1" strike="noStrike" u="sng">
                <a:solidFill>
                  <a:srgbClr val="00b050"/>
                </a:solidFill>
                <a:uFillTx/>
                <a:latin typeface="Arial"/>
              </a:rPr>
              <a:t>Quiz 3/4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en oraciones comple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veces, ¿te enfadan tus amig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iempre estas de buen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sonrisa en la cara cuando estas de buen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as triste o contento si recibes una nota m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 te interesa 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 dia de cultura lat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3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3 (1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3 (1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1:23:13Z</dcterms:created>
  <dc:creator>Helen Zumaeta</dc:creator>
  <dc:description/>
  <dc:language>en-US</dc:language>
  <cp:lastModifiedBy>Helen Zumaeta</cp:lastModifiedBy>
  <dcterms:modified xsi:type="dcterms:W3CDTF">2016-05-04T19:13:42Z</dcterms:modified>
  <cp:revision>12</cp:revision>
  <dc:subject/>
  <dc:title>Me llamo ________ Clase 8im La fecha es el 8 de enero del 2013</dc:title>
</cp:coreProperties>
</file>